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3B5-374D-4DD1-AB3C-B694E7BE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033-1B8A-4566-BC93-8E4565F3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F1B-AB70-4A5B-9CAB-566F89FF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84F-F137-447A-B5E5-ADB83B4A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9FC-3A80-4B37-9B05-372CF739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73A-C45D-489D-91DB-D0F91F80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481-9925-4457-8BD2-D0942E63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23F-D989-4AB7-BF3F-85EDA18C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671-162D-4F0F-B1ED-FB1C1B2F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C50-E899-4494-887A-1E930B38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5F7-38FA-4307-A2E5-0190CBAA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C20-04AC-4251-9474-F3C91D64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4279-71E5-49A4-B075-4053EC01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2133720"/>
            <a:ext cx="7543800" cy="289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is is Just To 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295280" y="56386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By Caroline &amp; Cl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Bauhaus 93"/>
              </a:rPr>
              <a:t>I forgot to feed the fis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Bauhaus 93"/>
              </a:rPr>
              <a:t>The red, green and blue fish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Bauhaus 93"/>
              </a:rPr>
              <a:t>that were in the bowls in my room.</a:t>
            </a:r>
            <a:r>
              <a:rPr b="0" lang="en-US" sz="3200" spc="-1" strike="noStrike">
                <a:solidFill>
                  <a:srgbClr val="009999"/>
                </a:solidFill>
                <a:latin typeface="Bauhaus 9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Berlin Sans FB"/>
              </a:rPr>
              <a:t>And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Berlin Sans FB"/>
              </a:rPr>
              <a:t>you were probab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Berlin Sans FB"/>
              </a:rPr>
              <a:t>wa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Berlin Sans FB"/>
              </a:rPr>
              <a:t>to keep ali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533520" y="0"/>
            <a:ext cx="9848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Forgive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I was tire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and it totall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slipped my mi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WORKS 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Melisdramatic. Jack Bruno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Kirby the Beta Fish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. Digital Im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http://www.flickr.com/photos/melisdramatic/49427022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Peiz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G2263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. Digital Im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http://www.flickr.com/photos/piez/241787114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Dalla*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askerville Old Face"/>
              </a:rPr>
              <a:t>Exhausted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. Digit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http://www.flickr.com/photos/dallaportfolio/37596926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5:23:25Z</dcterms:created>
  <dc:creator>Lakeview</dc:creator>
  <dc:description/>
  <dc:language>en-US</dc:language>
  <cp:lastModifiedBy>cyndi.vander_ven</cp:lastModifiedBy>
  <dcterms:modified xsi:type="dcterms:W3CDTF">2009-04-17T17:21:03Z</dcterms:modified>
  <cp:revision>4</cp:revision>
  <dc:subject/>
  <dc:title>This is Just To Say</dc:title>
</cp:coreProperties>
</file>